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8BD-0BB4-4C1A-A553-E5F18E48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FE7-59D4-4F23-ABCF-FC24D0DF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95925-9F28-410B-8654-42944793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10011-1E7D-4192-883A-953EECB0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0861A-6DDB-4A9B-A28B-6450253B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36C7D-4F7B-45C8-BEC5-94B05789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431C6-EB5C-4C54-98EF-7E484B56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DCC5B-6286-4C34-B9BB-600EC676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0F220-7CDA-4EED-B1CA-2E866FF8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ED357-DF28-4E5D-AEC9-B67ADBB3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DCCD8-6AFB-4AE4-8373-DB867FAE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5A02A-11A1-4EF6-9DC1-3C0A8472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0D5E-B2CC-44B3-891C-0DECE612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E4F80-F16B-4C65-AD84-8B1D0471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C48CB-D7F7-4B7C-8580-2B3FFB78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5D3B6-9A86-442C-B81C-D037756D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ED40F-8C00-4B1E-AE53-AC04659F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98543-3301-4868-B6ED-72D6B53C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05EBE-B413-4BDD-8EC6-79018005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953F8-4408-4AFD-A20C-C5B1687B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64F2E-2B83-4758-8EE0-951CFBAB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829E0-B908-4EBB-85E9-5862F00A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FC6DF-0FAB-431B-ADBF-E932A948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259-057D-4D09-B3DC-F6A30100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B0799-A841-4F56-A9A9-D2BF44EE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5D4A-C454-4894-9B7C-90646379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F81B-988A-4735-B30F-7FA7B66A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51AB-157B-4B62-8D73-FEA7F7B8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DCD7-69DD-45AA-8327-D0A0BD0A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CF55-27CC-49A3-9770-1007F2F3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DE58-0CDF-44E9-999A-E68C79C5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1B67-5AFB-4639-A9C4-E06F2DA4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BF7-2EB7-4930-B673-AA3BBC13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4198-5D3A-4A15-BA22-D24084CF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C88F-24A5-4C89-BD17-D169368B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4464-71B3-4BA6-A116-2BC95C5F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CEAE-6B59-4DC0-9A76-B8BDAC57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BB15-D14F-4306-80D2-579DE1D5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00D24-0924-497E-B135-79A2E0EF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2805A-EF12-42D5-A86D-A2903A1D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87DA8-F354-47CD-996A-B8CCD303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7BEA4-C5E9-4F73-96D3-B5A96D3F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BEA14-10F7-4776-B4BE-92AC3DF2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955-BA11-45C8-A70E-DCB1223C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79528-B640-4D9B-B09A-D9E09799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425BA-6157-4D52-A0B2-0F002259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41BA1-F4E4-4DBE-97B1-BAF9EEAC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5D8FB-FEFD-470B-97B9-96137A98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EDDA5-517D-4B02-BBE3-4B2E4CE0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D94E0-DD46-48D0-9B42-E160F164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644B9-A2E5-4036-A721-ED1883CE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3FA70-E0EF-40C0-BD43-6096F02E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E9F37-A3FD-49E8-985E-9CE596CB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41A32-7B91-4EFA-A318-202DCACF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5CE6-18D0-4156-B157-778A6B7D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9480A-A148-42C2-9BC8-50E92EB0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16C22-B3C3-4417-956A-508D7ED0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D99A9-BBD2-4AEC-B991-2F7DA680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CA27D-B6BA-4B19-8057-FAE51A2F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56BA9-D28F-415E-85DC-940F756C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DCAE9-799C-443E-8EBA-427790CE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FC70B-13C5-4060-9A20-E56BF8C3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A00AE-9A58-4E1D-AD0F-2FA1BD54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17146-46C0-4D6C-93FC-548987CA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52A74-A901-44B7-B191-C1486E42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C3BF-D869-4F35-A2CE-D9C7717F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2F2A8-423E-4510-B0C5-73D07AB3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E38CD-F4C6-457D-9CEC-16691F8D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B4721-1B6F-44BE-B83B-D6131570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30EBF-1E0F-45A8-8813-4A7D201B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74B68-327B-4892-8F38-CF6F3C40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D260A-2ECC-48F0-B0D1-42DAD307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C2AD8-4743-4D85-BB12-50D17CA6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41FFE-16C3-4A89-8E40-D4EEC714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7236E-E0FC-4C3F-B3B0-A0DA7C48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EEF5D-5711-456B-B8F4-B70E8EC6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D58-8221-41FB-B2F9-34674F28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2C940-89A2-48F1-952F-ACF669B4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639AB-2027-4B77-B3FB-9780C37E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236F3-7251-4678-A143-B1D236D3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11959-A8A9-4D72-87BE-91563815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335AF-D24F-475C-8ECF-C2CF7D85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34139-B8E2-4251-8138-43C27F9D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84AE5-A238-4B4F-85A8-588E5F62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7B024-F172-49A9-82D2-9C21E986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80FE4-8D95-4F43-B9CD-BCE54ED5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38405-7271-4C9C-8DBB-99B6F765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B9C-114D-4188-9E95-52B6B529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35F18-B73F-4EEA-AFB1-628310B7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F8EA5-B473-4E14-9905-FE7F302F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03D27-5FCE-4BA1-89CD-0516DBFB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A81EC-8678-45F6-BA0E-55603B92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9318C-B6A6-4DEB-BC38-364D7D78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A1A02-AD77-400A-ACD9-44CCE848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9B5A8-E775-4874-839D-EDC71B0F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90D17-CFCD-4895-A2AD-210ECAC8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B6EF0-F36C-4ABF-B2C8-E477F4F3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179C3-C9B3-4990-AAF8-D9E807E4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6A89-55B7-4B2C-A98C-B929C1A2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F0FA4-0642-4C35-81BB-AB42AF94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12568-C085-44FF-9A76-DAB4B4BC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32A90-6B3B-4457-9CDB-45F9BCFD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337ED-A166-44C2-BA63-0EA84A50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D66CE-82F0-45F4-A3AD-E4AD738F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4BED2-7531-4B6B-9823-7B768501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82E7D-5F2F-4D2D-9583-6DDE5294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AA452-08F4-47E3-B65C-4A6280E3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90FB9-821E-426A-88ED-41E5E2FB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1B94D-F712-49BA-96C7-FB5BCDBA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3C21-C995-4031-A3A0-B64851BF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97D93-188B-4F8C-BC90-BE96528B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DA608-1F29-4364-9086-D632439A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D7CB0-4D22-4C76-8B54-EDF18D50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09448-00DE-4D77-8DC2-E5E96871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5A682-3CC1-4784-A0E7-F4F372C0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CCCDF-93CD-431E-A961-5EEE2DB7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844CA-2B0D-4E5B-B1C0-601F56D4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0A4D5-0E01-4117-97FD-107062E9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462FF-4C90-4FF7-A7A9-E51FE8D7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E838B-D7BE-4215-A18E-959B91E0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B21E-0165-4E4A-8FD7-9D054EEBC52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F55F-6A60-4C2A-A22C-436A86088D6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0C7E-FD1C-411A-A688-58845E1F8FB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E3EE-7B72-48B3-9B1D-C1DBA47276C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E115-DF3B-40B7-AF84-B2535174272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C363-D6C3-4AB2-9FEF-D978D2E5A28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BBC1-66D5-4C17-8B12-AC61F33FCB7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1859-0A12-4AD7-837C-75F5AC69339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2E6B-84DA-4F2F-9A1C-8E89699F94B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0A50-549E-40B0-BA68-D431313A5AB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2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요즘 어떻게 지내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르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께서도 안녕하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할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께서도 안녕하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남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도 잘 있습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재호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량위링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지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재호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부모님께서도 안녕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량위링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니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요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hese days, nowadays, recent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지내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o get along (do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부모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떻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how; interrogative adver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떻게 합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이것을 어떻게 만들었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사람은 어떻게 생겼습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	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께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; honorific expression of 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선생님께서 이야기하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할아버지께서 오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아버지께서 신문을 읽으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lso, too; a subject/object post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저도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좋습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사람도 압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음식도 맛있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Particle? Or Postpos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맑은 고딕"/>
              </a:rPr>
              <a:t>Make nouns/prenouns into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ubject/object/possesive for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quivalent array ( ~ and ~, ~ or ~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djective or adverbe phras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맑은 고딕"/>
              </a:rPr>
              <a:t>Postpositions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생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씨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r. (Ms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rofess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르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tea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있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e, exist, pres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남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husba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친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rie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augh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학생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장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resid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부장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irector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어머니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부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if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il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동생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youn ger br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,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장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진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나카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일러 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,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지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마다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부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최 교수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임지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김윤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09-24T14:40:06Z</dcterms:modified>
  <cp:revision>70</cp:revision>
  <dc:subject/>
  <dc:title>KOREAN LANGUAGE</dc:title>
</cp:coreProperties>
</file>